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644A-FEC5-4ADF-993F-6FAF8CF62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8A7E-30B6-4B6C-8250-D5F3E9E0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7AA3-706C-4F01-A978-48E884F5A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1479-4A4C-4A25-BADA-367F3B75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CE38-57A0-4F58-A708-24B8420C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8794-B3C9-4DA6-85E0-5F440B3B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2C0D-5967-4408-87D0-8D6F9AC6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29DD-EC9B-4EAA-A16E-CEA45C80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095D-DD4C-4160-B6B2-9355255B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E55F-9105-4F7C-A7FF-5D11E8BD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6A2C-B38B-4D95-96B0-50AF77E0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0CF9-AC62-43D7-AFB1-3F8CF0A5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662A-71F6-458A-83BC-7CB12CF57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Clase 6NH(602)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24 de octubre del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447920"/>
            <a:ext cx="9067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14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Dónde compras materiales escola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e the following expressions in a sentence;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solo puedes usar “yo” 1 ve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udiar mu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mar apu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star at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acar no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4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do se conjugan los verbos en el presente, se escriben los pronombres en orden y se remplaza </a:t>
            </a: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–A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de la siguiente for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(When conjugating verbs in the present tense, you write the Spanish Subject Pronouns in order and you replace the –AR in the following form: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–</a:t>
            </a: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7800" y="411480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7080" y="452592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2160" y="498312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Él-Ella-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5440320"/>
            <a:ext cx="18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oso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680" y="5867280"/>
            <a:ext cx="30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llos-Ellas-U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67800" y="4114800"/>
            <a:ext cx="63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-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67000" y="457200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-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68520" y="50292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94840" y="5440320"/>
            <a:ext cx="151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-A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46120" y="589752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-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1000" autoRev="1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250" autoRev="1" fill="hold"/>
                                        <p:tgtEl>
                                          <p:spTgt spid="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9440" y="384120"/>
            <a:ext cx="821700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mpl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conjugar un verbo, se mantiene la raíz del verbo y se remplaza la termin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(To conjugate a verb, you keep the root of the verb and replace the en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Por 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BLA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4114800"/>
            <a:ext cx="685800" cy="6094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4114800"/>
            <a:ext cx="609480" cy="6094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4648320"/>
            <a:ext cx="1143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4648320"/>
            <a:ext cx="99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905120" y="4647960"/>
            <a:ext cx="0" cy="685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019920" y="4647960"/>
            <a:ext cx="0" cy="685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895480" y="3581280"/>
            <a:ext cx="457200" cy="5335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858000" y="3581280"/>
            <a:ext cx="457200" cy="5335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6480" y="3276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Arial"/>
              </a:rPr>
              <a:t>TERMIN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0" i="1" lang="es-ES_tradnl" sz="1200" spc="-1" strike="noStrike">
                <a:solidFill>
                  <a:srgbClr val="008000"/>
                </a:solidFill>
                <a:latin typeface="Arial"/>
              </a:rPr>
              <a:t>(END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6400" y="5318280"/>
            <a:ext cx="72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RA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ff"/>
                </a:solidFill>
                <a:latin typeface="Arial"/>
              </a:rPr>
              <a:t>(RO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980400" y="324468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Arial"/>
              </a:rPr>
              <a:t>TERMIN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0" i="1" lang="es-ES_tradnl" sz="1200" spc="-1" strike="noStrike">
                <a:solidFill>
                  <a:srgbClr val="008000"/>
                </a:solidFill>
                <a:latin typeface="Arial"/>
              </a:rPr>
              <a:t>(END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76120" y="5334120"/>
            <a:ext cx="72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RA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ff"/>
                </a:solidFill>
                <a:latin typeface="Arial"/>
              </a:rPr>
              <a:t>(RO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verbo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ABLAR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 conjuga de la siguiente form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1600200"/>
          <a:ext cx="8229600" cy="4525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54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abla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 speak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2135160" y="246852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34800" y="320040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57280" y="388620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l-Ella-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4724280"/>
            <a:ext cx="18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11520" y="5440320"/>
            <a:ext cx="30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os-Ellas-U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25360" y="251460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ab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89360" y="25146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25360" y="320040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ab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40120" y="32004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5360" y="396252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ab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40120" y="3992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9040" y="467820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ab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64160" y="467820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a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9040" y="528804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ab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63800" y="528804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verbo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ANAR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 conjuga de la siguiente form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600200"/>
          <a:ext cx="8229600" cy="4525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54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ana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 win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2135160" y="246852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34800" y="320040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57280" y="388620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l-Ella-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724280"/>
            <a:ext cx="18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4160" y="5440320"/>
            <a:ext cx="30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os-Ellas-U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77640" y="243828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63800" y="2438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87000" y="320040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40120" y="32004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87000" y="396252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3962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10680" y="467820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64160" y="467820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a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10680" y="528804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63800" y="528804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ractica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juga los verbos en el presen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52280" y="1447920"/>
          <a:ext cx="8839080" cy="5333400"/>
        </p:xfrm>
        <a:graphic>
          <a:graphicData uri="http://schemas.openxmlformats.org/drawingml/2006/table">
            <a:tbl>
              <a:tblPr/>
              <a:tblGrid>
                <a:gridCol w="2209680"/>
                <a:gridCol w="2209680"/>
                <a:gridCol w="2210040"/>
                <a:gridCol w="2209680"/>
              </a:tblGrid>
              <a:tr h="889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studia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 study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mina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 walk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1071720" y="2514600"/>
            <a:ext cx="68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67760" y="335268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0400" y="419112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l-Ella-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5029200"/>
            <a:ext cx="18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5791320"/>
            <a:ext cx="220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os-El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16560" y="254484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62560" y="3276720"/>
            <a:ext cx="6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3800" y="426708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l-Ella-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5105520"/>
            <a:ext cx="18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5791320"/>
            <a:ext cx="220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os-El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ga los siguientes verb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erar (to wa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r (to cou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ar (to thr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star (to answ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ilar (to d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15:36:31Z</dcterms:created>
  <dc:creator>Helen Zumaeta</dc:creator>
  <dc:description/>
  <dc:language>en-US</dc:language>
  <cp:lastModifiedBy>Helen Zumaeta</cp:lastModifiedBy>
  <dcterms:modified xsi:type="dcterms:W3CDTF">2012-10-23T18:01:35Z</dcterms:modified>
  <cp:revision>10</cp:revision>
  <dc:subject/>
  <dc:title>Me llamo ________ Clase 6NH La fecha es el 15 de febrero del 2012</dc:title>
</cp:coreProperties>
</file>